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C5E-B6D8-4BA2-9549-5A7108A7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BBB-3B0A-414B-AC57-8C54B2CB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009-1E98-4980-A433-F155A1FC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6DE5-7A1D-45AE-B6C3-B6DD2CF7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274E-73AA-40EE-A705-5963556B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BBDB-2986-4F3F-A66C-7E3D1D2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E311-E349-4079-9D46-F337364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8FF-D8EE-49CC-AF5E-E1158D93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FD2-0C71-4CED-9954-2D373A29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932C-DFE7-4F20-A261-3AAF53B5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8F1F-8DAA-496A-99C0-AF2B4BEC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740-25F7-4B75-98A3-7745144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B47-2A9B-4710-93B0-E7758DF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E0FA-D529-483A-91C8-670DF8BF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1100-A77D-4FEC-8CA6-F362CC1F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AA10-121C-473C-AE84-67022C6A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D68-4EA8-47CF-BDB5-AC6DA45E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A11-8132-4B62-AFA6-3FBD694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8A5-1A1F-42EA-954F-51B80245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AAD-0679-484E-83D1-4AF391C6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15E-5CBC-4705-A045-EC069CEA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B40-83F1-44D0-A997-2A6BBAB6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AD7-95C4-425F-A67B-D8F82E2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94B-A09D-4781-960E-7799F44C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A506-A7BE-45B9-8F52-A545E32E6F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FD15-A38B-4E6A-96B7-94DFB79085B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ederal Court Syste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Federal Court Syste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lso gave the Congress the power to establish other inferior cour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3124080" y="4572000"/>
            <a:ext cx="5639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10820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iminal and Civil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United States has a dual court system.  This dual system is made up of state courts and federal cour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st cases are decided by state court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riminal ca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juries decide whether people have committed crim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 Black"/>
              </a:rPr>
              <a:t>Civil cases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are those where two parties disagree and one takes action against the other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Jurisdiction: The authority to decide a cas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federal courts have jurisdiction in certain specific areas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the Constitution (examples- cases involving freedom of speech or search and seizure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federal laws (examples- bank robbery, tax evasion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ederal Jurisdiction continu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dmiralty and maritime law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in which the U.S. government is involv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stat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citizens of different states (when the claim is greater than $50,000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isputes between a foreign government and the U.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ses involving U.S. diploma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clusive Jurisdiction-when only the federal courts may try, hear, and decide a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current Jurisdiction-when state and federal courts share responsibility for a ca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iginal Jurisdiction- the authority to hear a case for the first ti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ellate Jurisdiction- the authority of a court to hear a case appealed from a lower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733560" y="301320"/>
            <a:ext cx="4724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 of case/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nk Robbe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hoplifting at the mal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ar thef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actories pollute the river that serves as a border between two stat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Your neighbor builds his fence on your ya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rd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3724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1:58:14Z</dcterms:created>
  <dc:creator>shroberts</dc:creator>
  <dc:description/>
  <dc:language>en-US</dc:language>
  <cp:lastModifiedBy>default</cp:lastModifiedBy>
  <dcterms:modified xsi:type="dcterms:W3CDTF">2009-01-23T12:50:41Z</dcterms:modified>
  <cp:revision>16</cp:revision>
  <dc:subject/>
  <dc:title>The Federal Court System</dc:title>
</cp:coreProperties>
</file>